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1C7-9EA1-4D2F-BCD3-7E049C6E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EA4-BFF3-4343-94ED-9B86D6CB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93A-4457-4760-AD51-2365A4A6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5A0-8261-47C6-8544-095CC55B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E32-DF63-4649-AE72-8BB15C39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3DF-C77F-4033-B451-75EC8B06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7F6-8767-40CD-88C9-A640CE82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102-6DD8-4E2A-9169-48D689F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1F2-FBF7-4BC4-9D1C-06255C5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D74-CB1C-4F23-8B9B-2187256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C92-D6FC-40A1-A6DE-6076563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537-754E-455A-AE21-2A3B20E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C22E-4A51-4C4F-BE2C-E8A17686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r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2280" y="56386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search for words in red and add clipart to retell the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7275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5715000" y="5486400"/>
            <a:ext cx="3033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j0262869"/>
          <p:cNvPicPr/>
          <p:nvPr/>
        </p:nvPicPr>
        <p:blipFill>
          <a:blip r:embed="rId3"/>
          <a:stretch/>
        </p:blipFill>
        <p:spPr>
          <a:xfrm>
            <a:off x="3005280" y="1066680"/>
            <a:ext cx="2779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s on an adven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7620120" y="1219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nt with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520" y="160020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467480" y="5335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tried to catch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couldn’t catch him in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uck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the end the frog followed the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8001000" y="9144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21:11:55Z</dcterms:created>
  <dc:creator>Beth Weeks</dc:creator>
  <dc:description/>
  <dc:language>en-US</dc:language>
  <cp:lastModifiedBy>Help Desk</cp:lastModifiedBy>
  <dcterms:modified xsi:type="dcterms:W3CDTF">2010-08-15T01:29:36Z</dcterms:modified>
  <cp:revision>5</cp:revision>
  <dc:subject/>
  <dc:title>A Boy, A Dog and a Frog</dc:title>
</cp:coreProperties>
</file>